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8E1-C3A6-47F5-8DBE-7407E808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170-BE85-445B-BB97-BA796573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6D8-E34A-44E0-9CEF-4A24221E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275-4508-4677-98C3-B0351D1F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B7F-7F9D-449F-ABCD-81298860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1C9-3B8C-4E2C-9668-104FCA3D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E09-C1AA-43E1-B183-5668D9A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A1F-088E-48D0-9E95-586EF00C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305-B4E9-4C63-B5EF-65548970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CD7-90E9-4F4E-B1B4-64EC787F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B51-C91F-43B7-ACEB-2981860E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689-59EB-487B-B24A-C80B41BD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10F2-D3D6-43AE-AC2C-019E6B72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7480" y="5084640"/>
            <a:ext cx="73468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ματιές στο μέλλον 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83040" y="2381400"/>
            <a:ext cx="3001680" cy="234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63640" y="189000"/>
            <a:ext cx="5688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0000"/>
                </a:solidFill>
                <a:latin typeface="Comic Sans MS"/>
              </a:rPr>
              <a:t>DBMS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Συνένωση πολλών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DB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939960"/>
            <a:ext cx="84963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Αποδοτικοί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ry Optim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Κάθε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te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πρέπει να είναι τοπικά αυτόνομ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Οι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timizers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πρέπει να προσαρμόζονται σε ένα δυναμικό δίκτυ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Βαθμιαία βελτίωση του αποτελέσματος της αναζήτηση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Δημιουργία ασαφούς απάντησης και συνεχής βελτίωση όσο επιθυμεί ο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χρήστ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Εργαλεία που βοηθούν την διαδικασία ενοποί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Συγχώνευση προδιαγραφών εφαρμογής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base interface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 και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βοηθητικών εργαλείων σε ένα ενιαίο σύνολ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789360"/>
            <a:ext cx="784872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Comic Sans MS"/>
              </a:rPr>
              <a:t>Παραδείγ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00"/>
                </a:solidFill>
                <a:latin typeface="Comic Sans MS"/>
              </a:rPr>
              <a:t>«Βρες το μέσο μισθό υπαλλήλων σε όλες τις επιχειρήσει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00"/>
                </a:solidFill>
                <a:latin typeface="Comic Sans MS"/>
              </a:rPr>
              <a:t>«Υπάρχουν καλά ιταλικά εστιατόρια σε απόσταση 5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Km </a:t>
            </a:r>
            <a:r>
              <a:rPr b="0" lang="el-GR" sz="1800" spc="-1" strike="noStrike">
                <a:solidFill>
                  <a:srgbClr val="009900"/>
                </a:solidFill>
                <a:latin typeface="Comic Sans MS"/>
              </a:rPr>
              <a:t>από τον τόπ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00"/>
                </a:solidFill>
                <a:latin typeface="Comic Sans MS"/>
              </a:rPr>
              <a:t>διαμονής μου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880400" y="115920"/>
            <a:ext cx="1127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69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Αναθεώρηση της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παραδοσιακής αρχιτεκτονικής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5573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484280"/>
            <a:ext cx="84960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Αναθεώρηση αρχιτεκτονικών αποθήκευ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Ολοένα και μεγαλύτερες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BMS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 εφαρμογ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Μεγάλη χρήση μνήμη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Μεγάλοι χρόνοι αναζήτησης στους μεγάλους δίσκ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νάγκη ύπαρξης συστημάτων που ποτέ δεν αποτυγχάνουν (απομακρυσμένα αντίγραφα, δυναμική αναδιαμόρφωση συστήματο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Ιεραρχίες μνήμης 3 επιπέδ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Βελτίωση των 3-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er 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Εφαρμογ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5084640"/>
            <a:ext cx="799164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99"/>
                </a:solidFill>
                <a:latin typeface="Arial"/>
              </a:rPr>
              <a:t>Αναφορές :</a:t>
            </a:r>
            <a:r>
              <a:rPr b="0" lang="el-GR" sz="1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&gt;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J. Wang: “An Examination on Database Servers with the Clu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chitecture and Some Consideration on Enhancing PGP Public Key Serv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with Clustered PC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&gt;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J. Fritts : “Multi-Level Memory Prefetching for Media and Stream Processing”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53440" y="119160"/>
            <a:ext cx="12952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6720" y="1650960"/>
            <a:ext cx="8496360" cy="42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Εφαρμογή πλαισίων επιπέδου εφαρμογ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Εφαρμογές που οδηγούνται από δεδομέν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Συστήματα ικανά να ανταποκρίνονται σε χιλιάδες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i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Υποστήριξη πολλών ασύμβατων συστατικών σε ένα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R-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Βελτίωση των μεθόδων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isual 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προγραμματισμ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Αποδοτική ταυτόχρονη χρήση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QL 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και ενεργών γλωσσών προγραμματισμ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Διαδικασία ενοποίησης «έξυπνων»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και μη έξυπνων δεδο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4176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Ενοποίηση δομημένων και ημιδομημένων δεδομένω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421000"/>
            <a:ext cx="81356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Ενοποίηση τεχνολογιών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b 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και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Βάσεων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Σημασιολογικά ελκυστικό περιβάλλον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Διαχείριση απομακρυσμένων αντικειμένων, αντικειμένων που μπορούν να αυτοπεριγράφοντ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..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Η Μεγάλη Πρόκληση .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06960" y="4956120"/>
            <a:ext cx="2310120" cy="1497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4360" y="2276640"/>
            <a:ext cx="7991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Comic Sans MS"/>
              </a:rPr>
              <a:t>«Η Χρήση της Πληροφορία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Na </a:t>
            </a:r>
            <a:r>
              <a:rPr b="1" lang="el-GR" sz="2800" spc="-1" strike="noStrike">
                <a:solidFill>
                  <a:srgbClr val="333399"/>
                </a:solidFill>
                <a:latin typeface="Comic Sans MS"/>
              </a:rPr>
              <a:t>γίνει εύκολο για οποιονδήποτε να αποθηκεύει, να οργανώνει, να προσπελαύνει και να αναλύει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n line </a:t>
            </a:r>
            <a:r>
              <a:rPr b="1" lang="el-GR" sz="2800" spc="-1" strike="noStrike">
                <a:solidFill>
                  <a:srgbClr val="333399"/>
                </a:solidFill>
                <a:latin typeface="Comic Sans MS"/>
              </a:rPr>
              <a:t>την πλειονότητα των πληροφοριών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528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he Lowell Database Research Self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5892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Comic Sans MS"/>
              </a:rPr>
              <a:t>Μάϊος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l-GR" sz="3200" spc="-1" strike="noStrike">
                <a:solidFill>
                  <a:srgbClr val="ff0000"/>
                </a:solidFill>
                <a:latin typeface="Comic Sans MS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8000" y="1816200"/>
            <a:ext cx="310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Συμμετέχοντε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36480" y="475920"/>
            <a:ext cx="5483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 Abitebo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kesh Agra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 Bernste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e Ca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o Ce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ce Cro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DeWit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e Fran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ctor Garcia Mo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ter Gawl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G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ra Haa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n Hale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e Hellerste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nis Ioannid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Ker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Pazz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e Le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Ma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Naugh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s Sch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os Sel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i Silbersch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e Stonebr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k Snod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Ull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hard Weik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Wi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 Zdo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1200" y="2997360"/>
            <a:ext cx="1558800" cy="158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Θέματα που πραγματεύτηκ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Εκθεση απόψεων σε κρίσιμα θέματα των Βάσεων Δεδομέν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Τονίστηκε η σημαντικότητα της διαχείρισης της πληροφορίας ιδιαίτερα σε πολύπλοκα πληροφοριακά συστ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Συγκεκριμέν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Ενοποίηση κειμένου , δεδομένων, κώδικα και ρευμάτων πληροφοριώ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Συγχώνευση πληροφορίας από ετερογενείς πηγές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Διαχείριση  σε ανακριβή δεδομέ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Μη εξουσιοδοτημένη απόσπαση πληροφο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Απόκρυψη προσωπικών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Αυτοπροσαρμογ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Επανόρθω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Εναύσ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Πεδία εφαρμογ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Οι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cross enterprise”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εφαρμογές του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et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που ενδιαφέρονται για ανταλλαγή των πληροφοριών μεταξύ του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παιτούντα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Μεγαλύτερη ασφάλει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Μεγαλύτερες δυνατότητες ενοποίησης της πληροφορία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Επιστήμες που δημιουργούν τεράστιο όγκο δεδομένων(π.χ από ανάλυση δεδομένων, εικόνω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παιτούν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ναβαθμισμένες δυνατότητες διαχείρισης των ΒΔ (π.χ οργάνωση, επεξεργασία, μετακίνηση και ενοποίηση με τη μορφή των δεδομένων όπως απαιτούνται από τον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).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Το ηλεκτρονικό εμπόρ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Εναύσ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Η τεχνολογία των μικροαισθητήρ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Τεράστιες τεχνολογικές αλλαγές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 όπως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λματώδης και φτηνή αύξηση της χωρητικότητ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Βελτίωση χρόνων επεξεργασ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Οδήγησαν σε αλλαγές στις Β.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Συγκεκριμέν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Μοντέλα δεδομέ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Μέθοδοι πρόσβα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λγόριθμοι επεξεργασίας ερωτήσε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Ελεγχος ταυτοχρονισμο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Γλώσσες ερωταπαντή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se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Αλλαγές σε σχετικές τεχνολογίες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Π.χ επιτεύγματα στο χώρο της Τεχνητής Νοημοσύνης μπορούν να χρησιμοποιηθούν στις Β.Δ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0256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0000"/>
                </a:solidFill>
                <a:latin typeface="Comic Sans MS"/>
              </a:rPr>
              <a:t>Παρουσιάζουν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00400"/>
            <a:ext cx="7775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3399"/>
                </a:solidFill>
                <a:latin typeface="Comic Sans MS"/>
              </a:rPr>
              <a:t>Γκουγκούδη Μαρί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3399"/>
                </a:solidFill>
                <a:latin typeface="Comic Sans MS"/>
              </a:rPr>
              <a:t>Μυλωνά Δάφν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3399"/>
                </a:solidFill>
                <a:latin typeface="Comic Sans MS"/>
              </a:rPr>
              <a:t>Παππής Στέλιο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1125360"/>
            <a:ext cx="676908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0000"/>
                </a:solidFill>
                <a:latin typeface="Comic Sans MS"/>
              </a:rPr>
              <a:t>Δομή </a:t>
            </a:r>
            <a:br>
              <a:rPr sz="4800"/>
            </a:br>
            <a:r>
              <a:rPr b="1" lang="el-GR" sz="4800" spc="-1" strike="noStrike">
                <a:solidFill>
                  <a:srgbClr val="ff0000"/>
                </a:solidFill>
                <a:latin typeface="Comic Sans MS"/>
              </a:rPr>
              <a:t>της Επόμενης Γενιάς των Β.Δ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παιτείται αναβαθμισμένη υποστήριξη   πιο πολύπλοκων τύπων  δεδομένων(κείμενο, ήχος, εικόνα, βίντεο) που ως τώρα θεωρούνται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πολίτες 2ης κατηγορίας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παιτείται υποστήριξη εκτελέσιμου κώδικα μέσα στις Β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παιτείται η υποστήριξη εισαγωγής ρευμάτων δεδομένων από ενδιαφερόμενες πηγές παραγωγής πληροφοριώ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4040" y="115920"/>
            <a:ext cx="92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1. Ενοποίηση Κειμένου, Δεδομένων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Κώδικα και Ρευμάτ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73200" y="2060640"/>
            <a:ext cx="785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Βήματα που έχουν γίνε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Οι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ject Oriented(OO) 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και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ject-relational(OR) DBMSs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 ενσωματώνουν κείμενο και άλλους τύπους δεδομένων και συναρτήσεις επί αυτών υλοποιώντας τις ελάχιστες λειτουργίες που χρειάζοντ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Μειονέκτημα: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 Μη χειρισμός της πιθανής ανακρίβειας των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Δυνατότητα ορισμού δεδομένων και διαδικασιών από τον χρήστ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Μειονέκτημα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: Κατέχουν θέση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πολιτών  2ης κατηγορίας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90792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105264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14040" y="115920"/>
            <a:ext cx="92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1. Ενοποίηση Κειμένου, Δεδομένων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Κώδικα και Ρευμάτ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280" y="2133720"/>
            <a:ext cx="771516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Οι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iggers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στις ΒΔ  αποτελούν κώδικα που ενεργοποιούνται όταν μία συνθήκη ικανοποιεί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Μειονεκτήματ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Δε γίνεται ασύγχρονη ενημέρωση όπως θα θέλαμε αλλά περιοδική αναζήτηση στη Βάση για τυχόν ικανοποίηση συνθηκών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Απαντούνται  με προσέγγιση μόνο απλές ερωτ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Π.χ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Βρες όλο τον σχετικό κώδικα με το Α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ντικείμενο της ΒΔ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4040" y="115920"/>
            <a:ext cx="92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1. Ενοποίηση Κειμένου, Δεδομένων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Κώδικα και Ρευμάτ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31280" y="1483920"/>
            <a:ext cx="838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Προτεινόμενες λύσει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Ανάπτυξη εφαρμογών παρακολούθησης από εμπορικές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BM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Απαιτούνται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Προσάρτηση ενός μικροαισθητήρα σε κάθε αντικείμενο παρακολούθηση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Εισαγωγή ρευμάτων πληροφοριών από αυτές τις συσκευές όταν 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ερωτώντα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π.χ.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333399"/>
                </a:solidFill>
                <a:latin typeface="Arial"/>
              </a:rPr>
              <a:t>Ρωτάμε την εφαρμογή παρακολούθησης για έναν σχεδιογράφο που </a:t>
            </a:r>
            <a:r>
              <a:rPr b="0" i="1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l-GR" sz="2000" spc="-1" strike="noStrike">
                <a:solidFill>
                  <a:srgbClr val="333399"/>
                </a:solidFill>
                <a:latin typeface="Arial"/>
              </a:rPr>
              <a:t>χάθηκ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Να γίνουν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πολίτες 1ης κατηγορίας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στις ΒΔ τα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Δομημένα Δεδομέ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Πολυμεσικά δεδομέ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Διαδικασιακά δεδομέ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i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Ρεύματα δεδομένων και ουρ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Επαναθεώρηση από την αρχή των προβλημάτων αρχιτεκτονικής των ΒΔ και όχι επέκταση των ήδη υπαρχουσών τεχνικώ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2600" y="115920"/>
            <a:ext cx="92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1. Ενοποίηση Κειμένου, Δεδομένων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Κώδικα και Ρευμάτ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Χτε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Γινόταν με την τεχνική Ανάκτηση –Μετατροπή –Φόρτωμα στις Αποθήκες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Πλεονέκτημ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Εύκολη η εφαρμογή σε μία επιχείρηση με λίγες διαφορετικές πηγές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Σήμερα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Αδυναμία εφαρμογής της τεχνικής στ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net 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γιατ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Σκορπισμένες οι πηγές των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Πρέπει η τεχνική να εφαρμόζεται σε κάθε πηγή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Ετερογένεια στον τρόπο παρουσίασης των πληροφοριών ακόμη και πάνω στο ίδιο θέμα των διαφόρων συνδυαζόμενων συστημά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940520" y="404640"/>
            <a:ext cx="952560" cy="819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361440" y="195120"/>
            <a:ext cx="86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2. Συνδυασμός των Πληροφοριώ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735480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Επιμέρους προβλήματα που πρέπει να επιλυθού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Οχι ακριβείς  απαντήσεις στα ερωτήματα που τίθενται αλλά προσεγγιστικέ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Δυσκολία στον συνδυασμό πληροφοριών από διαφορετικές πηγές όταν υπάρχει το κώλυμα της ασφάλειας και του απορρήτου των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012160" y="333360"/>
            <a:ext cx="952560" cy="819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361440" y="195120"/>
            <a:ext cx="86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2. Συνδυασμός των Πληροφοριώ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5320" y="1684080"/>
            <a:ext cx="80503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Οι αισθητήρες είνα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Χαμηλού κόστους συσκευ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Αυτοενεργοποιούμεν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Δαπανούν περισσότερη ενέργεια στην επικοινωνία παρά στην επεξεργασ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Τι πρέπει να γίνε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Νέες δυνατότητες στις ΒΔ για διεκπεραίωση των λειτουργιών επεξεργασίας πληροφοριών στους τόπους παραγωγής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Προσαρμογή των ΒΔ στις συνεχείς αλλαγές των ρυθμίσεων των δικτύων των αισθητήρ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Αντιμετώπιση πιο πολύπλοκων μορφών ενοποίησης της πληροφορ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4320" y="44280"/>
            <a:ext cx="76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3. Δεδομένα Αισθητήρων κα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Δίκτυα Αισθητή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6913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Ο όγκος των πολυμεσικών δεδομένων αυξάνεται δραματ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780000" y="5373720"/>
            <a:ext cx="1512360" cy="1081080"/>
            <a:chOff x="3780000" y="5373720"/>
            <a:chExt cx="1512360" cy="1081080"/>
          </a:xfrm>
        </p:grpSpPr>
        <p:sp>
          <p:nvSpPr>
            <p:cNvPr id="145" name="Film"/>
            <p:cNvSpPr/>
            <p:nvPr/>
          </p:nvSpPr>
          <p:spPr>
            <a:xfrm>
              <a:off x="3780000" y="5649120"/>
              <a:ext cx="631080" cy="8056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ound"/>
            <p:cNvSpPr/>
            <p:nvPr/>
          </p:nvSpPr>
          <p:spPr>
            <a:xfrm>
              <a:off x="4145040" y="5373720"/>
              <a:ext cx="876240" cy="5342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Photo"/>
            <p:cNvSpPr/>
            <p:nvPr/>
          </p:nvSpPr>
          <p:spPr>
            <a:xfrm>
              <a:off x="4478760" y="5690880"/>
              <a:ext cx="813600" cy="4842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Music"/>
            <p:cNvSpPr/>
            <p:nvPr/>
          </p:nvSpPr>
          <p:spPr>
            <a:xfrm>
              <a:off x="4572720" y="5974560"/>
              <a:ext cx="667440" cy="4672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-372600" y="195120"/>
            <a:ext cx="98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4. Ερωτήσεις σε Πολυμεσικά Δεδομέ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781360"/>
            <a:ext cx="7777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Τι πρέπει να γίνε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Ανεύρεση εύκολων τρόπων αποθήκευσης, ανάλυσης, αναζήτησης, επεξεργασίας και εμφάνισής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Διαχείριση «ασαφών» δεδο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5120" y="1792440"/>
            <a:ext cx="57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Υπάρχουν πολλά ανακριβή δεδομένα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τοπογραφικά, μετρήσεις εργαστηρίων κλπ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Γνώση για Προέλευση Απαντήσε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Μετακίνησ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Ντετερμινιστικά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Στοχαστικ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454560" cy="345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45080" y="3213000"/>
            <a:ext cx="142920" cy="1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48428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Laguna Beach, CA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628640"/>
            <a:ext cx="3240000" cy="1656000"/>
          </a:xfrm>
          <a:custGeom>
            <a:avLst/>
            <a:gdLst/>
            <a:ahLst/>
            <a:rect l="l" t="t" r="r" b="b"/>
            <a:pathLst>
              <a:path w="2041" h="1043">
                <a:moveTo>
                  <a:pt x="0" y="0"/>
                </a:moveTo>
                <a:lnTo>
                  <a:pt x="1179" y="0"/>
                </a:lnTo>
                <a:lnTo>
                  <a:pt x="2041" y="104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91628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Palo Alto, CA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78136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Cambridge, MA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28464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Asilomar, CA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78936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 Lowell, MA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34144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Palo Alto, CA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328464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328464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2360" y="3357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9640" y="3213000"/>
            <a:ext cx="142920" cy="1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328464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2133720"/>
            <a:ext cx="3743280" cy="1150920"/>
          </a:xfrm>
          <a:custGeom>
            <a:avLst/>
            <a:gdLst/>
            <a:ahLst/>
            <a:rect l="l" t="t" r="r" b="b"/>
            <a:pathLst>
              <a:path w="2358" h="725">
                <a:moveTo>
                  <a:pt x="0" y="0"/>
                </a:moveTo>
                <a:lnTo>
                  <a:pt x="1633" y="0"/>
                </a:lnTo>
                <a:lnTo>
                  <a:pt x="2358" y="7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2492280"/>
            <a:ext cx="3816360" cy="865440"/>
          </a:xfrm>
          <a:custGeom>
            <a:avLst/>
            <a:gdLst/>
            <a:ahLst/>
            <a:rect l="l" t="t" r="r" b="b"/>
            <a:pathLst>
              <a:path w="2404" h="545">
                <a:moveTo>
                  <a:pt x="0" y="0"/>
                </a:moveTo>
                <a:lnTo>
                  <a:pt x="1633" y="0"/>
                </a:lnTo>
                <a:lnTo>
                  <a:pt x="2404" y="5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2924280"/>
            <a:ext cx="3816360" cy="288720"/>
          </a:xfrm>
          <a:custGeom>
            <a:avLst/>
            <a:gdLst/>
            <a:ahLst/>
            <a:rect l="l" t="t" r="r" b="b"/>
            <a:pathLst>
              <a:path w="2404" h="182">
                <a:moveTo>
                  <a:pt x="0" y="0"/>
                </a:moveTo>
                <a:lnTo>
                  <a:pt x="2177" y="0"/>
                </a:lnTo>
                <a:lnTo>
                  <a:pt x="2404" y="1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429000"/>
            <a:ext cx="3816360" cy="71280"/>
          </a:xfrm>
          <a:custGeom>
            <a:avLst/>
            <a:gdLst/>
            <a:ahLst/>
            <a:rect l="l" t="t" r="r" b="b"/>
            <a:pathLst>
              <a:path w="2404" h="45">
                <a:moveTo>
                  <a:pt x="0" y="45"/>
                </a:moveTo>
                <a:lnTo>
                  <a:pt x="2359" y="45"/>
                </a:lnTo>
                <a:lnTo>
                  <a:pt x="24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3429000"/>
            <a:ext cx="4248360" cy="576360"/>
          </a:xfrm>
          <a:custGeom>
            <a:avLst/>
            <a:gdLst/>
            <a:ahLst/>
            <a:rect l="l" t="t" r="r" b="b"/>
            <a:pathLst>
              <a:path w="2676" h="363">
                <a:moveTo>
                  <a:pt x="0" y="363"/>
                </a:moveTo>
                <a:lnTo>
                  <a:pt x="2494" y="363"/>
                </a:lnTo>
                <a:lnTo>
                  <a:pt x="26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3141720"/>
            <a:ext cx="2737080" cy="12240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6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erson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66760" y="2151000"/>
            <a:ext cx="715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Οι απαντήσεις πρέπει να εξαρτώνται από το προφίλ του χρήστ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Διαφορετικές απαντήσεις για ίδιες ερωτήσει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23840" y="2295360"/>
            <a:ext cx="70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Δημιουργία αλγορίθμων και ενοποίηση με άλλες ευκολίες των ΒΔ, ώστε να απαντούν σε «αναπάντεχες» ;; ερωτήσ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0000"/>
                </a:solidFill>
                <a:latin typeface="Comic Sans MS"/>
              </a:rPr>
              <a:t>8. Αυτοπροσαρμογή 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lf Adaptation</a:t>
            </a:r>
            <a:r>
              <a:rPr b="0" lang="el-GR" sz="36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760" y="1773360"/>
            <a:ext cx="850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Τα σημερινά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BMS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 είναι πολύ δύσκολο να χρησιμοποιηθού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Στόχος: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no-knobs t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5000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9. Προσωπικά Δεδομέ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170028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internet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προκάλεσε αναστάτωση με τα προσωπικά δεδομέ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32130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Τα δικαιώματα πρόσβασης πρέπει να ρυθμίζονται όχι μόνο στο ποιος ρωτάει, αλλά και το που θα τοποθετηθούν αυτά τα δεδομέ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66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0. Αξιόπιστα συστή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64772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Τα προσωπικά δεδομένα είναι μόνο μια όψη των Αξιόπιστων συστημά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Θα πρέπει οι ΒΔ με ασφάλεια ν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Αποθηκεύουν δεδομέ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Προστατεύουν από μη εξουσιοδοτημένη πρόσβασ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Προστατεύουν από απώλεια δεδομέν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Είναι πάντα διαθέσιμα σε εξουσιοδοτημένους χρήσ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8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1. Νέες διασυνδέσεις χρήστ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8200" y="1792440"/>
            <a:ext cx="721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Μέχρι τώρα οι ΒΔ δεν έδωσαν την προσοχή που έπρεπε στις διασυνδέσεις με τον χρήστ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Η πλοήγηση είναι πολύ δημοφιλή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Να δουν τις ευκαιρίες που προσφέρει η οντολογί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43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2. Αιώνια αποθήκευ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20" y="1360440"/>
            <a:ext cx="779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Μέχρι τώρα υπάρχουν παλιότερα δεδομένα που δεν μπορούμε να τα ανακτήσουμε, είτε λόγου των ευαίσθητων μέσων αποθήκευσης, είτε λόγω των απαρχαιωμένων εφαρμογώ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8200" y="3808440"/>
            <a:ext cx="71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Επίσης σε περίπτωση ανάκτησης δεν γνωρίζουμε την προέλευση ή την ακριβής περιγραφή των δεδομέν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3. Βελτιστοποίηση Ερωτημάτ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1773360"/>
            <a:ext cx="79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Χρειάζεται επιπλέον βελτιστοποίηση για τις γλώσσες ενοποίησης ημιδομημένων δεδομένων για ρεύματα, δίκτυα αισθητήρων και ίσως σε άλλους τομεί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Πρέπει να δουν την βελτιστοποίηση στα υπο-ερωτήμ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11640" y="277920"/>
            <a:ext cx="38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Επόμενα Βή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240" y="1506600"/>
            <a:ext cx="67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Τελικά τέθηκε και βραχυχρόνιος στόχο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25844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Η ενοποίηση της πληροφορίας θα εξυπηρετηθεί καλύτερα, αν δημιουργηθεί ένα πεδίο δοκιμών, όπου θα έχει πρόσβαση ο καθένας που θα έχει μια ιδέ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8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9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74520" y="62064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ι άρχισαν οι συζητήσει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56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Πως θα υλοποιηθεί το πεδίο δοκιμώ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Τι δεδομένα θα περιλαμβάνε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ν χρειάζεται να ξαναδούν ήδη λυμένα προβλήματ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ν τα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ream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 χρειάζονται νέα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BMS engine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Ποιο θα είναι το επίπεδο της ολοκλήρωση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ν τα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 services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θα μπορούσαν να κάνουν την δουλει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528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he Asilomar Report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Database Resea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5892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Comic Sans MS"/>
              </a:rPr>
              <a:t>Σεπτέμβριος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29080" y="47628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αλλά συμφώνησα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1844640"/>
            <a:ext cx="67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Να δουν τις ευκαιρίες που προσφέρουν σχετικές τεχνολογί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79480" y="3284640"/>
            <a:ext cx="67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Στην επόμενη συνάντηση να καλέσουν και νεότερους επιστήμον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03280" y="2565360"/>
            <a:ext cx="597708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Καλές Διακοπές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2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933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93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9080" y="158400"/>
            <a:ext cx="53640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hil Bernstei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Michael Brodie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Stefano Ceri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David DeWit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Mike Frankli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Hector Garcia-Milina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Jim Gray, Jerry Held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Joe Hellerstei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H.V. Jagadish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Michael Lesk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Dave Maier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Jeff Naught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Hamid pirahesh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Mike Stonebraker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Jeff Ull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23280" y="220176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Συμμετέχοντες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2116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flipH="1">
            <a:off x="179280" y="26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αλλαγή στόχων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2163600"/>
            <a:ext cx="73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Να επεκταθούν οι ορίζοντες της έρευνας σε μακροπρόθεσμους στόχους και να αφεθούν οι λεπτομέρειες της κάθε υλοποίησης σε οργανισμούς και επιχειρή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386480" y="189000"/>
            <a:ext cx="1217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773360"/>
            <a:ext cx="8208720" cy="1222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9900"/>
                </a:solidFill>
                <a:latin typeface="Arial"/>
              </a:rPr>
              <a:t>Ανάγκη για εύκολη και γρήγορη ανάπτυξη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BMS </a:t>
            </a:r>
            <a:r>
              <a:rPr b="0" lang="el-GR" sz="2400" spc="-1" strike="noStrike">
                <a:solidFill>
                  <a:srgbClr val="009900"/>
                </a:solidFill>
                <a:latin typeface="Arial"/>
              </a:rPr>
              <a:t>για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eb</a:t>
            </a:r>
            <a:r>
              <a:rPr b="0" lang="el-GR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9900"/>
                </a:solidFill>
                <a:latin typeface="Arial"/>
              </a:rPr>
              <a:t>αυτοματοποιήση των αναζητήσεων και παροχή ασφάλε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1080" y="3573360"/>
            <a:ext cx="8638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Τα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BMS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αρχίζουν να αποθηκεύουν και να διαχειρίζονται λογική (κώδικα) και δεδομέ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72720"/>
            <a:ext cx="37083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εναύσματα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555920"/>
            <a:ext cx="7343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197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eb &amp;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9242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Σύνθετο περιβάλλον εφαρμογών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521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εύκολα προσπελάσιμη πληροφορία στον κυβερνοχώρ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ηλεκτρονικό εμπόρ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2360" y="426096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Comic Sans MS"/>
              </a:rPr>
              <a:t>Εξελίξεις στο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ardware</a:t>
            </a:r>
            <a:r>
              <a:rPr b="1" lang="el-GR" sz="4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011560"/>
            <a:ext cx="820728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9900"/>
                </a:solidFill>
                <a:latin typeface="Arial"/>
              </a:rPr>
              <a:t>Ανάγκη για αλλαγή των παραδοσιακών τεχνικώ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9900"/>
                </a:solidFill>
                <a:latin typeface="Arial"/>
              </a:rPr>
              <a:t>αρχιτεκτονικής και διαχείρισης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BMS</a:t>
            </a:r>
            <a:r>
              <a:rPr b="0" lang="el-GR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084640"/>
            <a:ext cx="799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Γρηγορότερες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PU,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μεγαλύτεροι δίσκοι και μνήμη, παράλληλη επεξεργασ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Arial"/>
              </a:rPr>
              <a:t>Έξυπνες συσκευ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5440" y="3500280"/>
            <a:ext cx="820728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Ανάγκη για ενοποίηση εφαρμογών και δεδομέν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932600" y="187200"/>
            <a:ext cx="96048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Η προτεινόμενη Ατζέντ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lug and Play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Comic Sans MS"/>
              </a:rPr>
              <a:t>Συνένωση εκατομμυρίων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Comic Sans MS"/>
              </a:rPr>
              <a:t>Αναθεώρηση της παραδοσιακής αρχιτεκτονικής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BMS</a:t>
            </a:r>
            <a:r>
              <a:rPr b="0" lang="el-G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Comic Sans MS"/>
              </a:rPr>
              <a:t>Διαδικασία ενοποίησης «έξυπνων» και «μη έξυπνων» δεδομένω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90836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1052640"/>
            <a:ext cx="878544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Αυτορυθμιζόμενες Βάσεις Δεδομένων 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nob-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9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υτόματη προσαρμογή σε αλλαγέ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9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Διευκόλυνση ή απουσία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9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9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Αυτόματος εντοπισμός και συνεργασία με άλλα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9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Περισσότερα δεδομένα που περιγράφουν τις έννοιες των αντικειμένων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που διαχειρίζονται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meta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9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Πλούσια συλλογή από συναρτήσεις μετατροπής τύπων δεδομέ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9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lug and Play DB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1480" y="3346560"/>
            <a:ext cx="4232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349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Wizzard </a:t>
            </a:r>
            <a:r>
              <a:rPr b="0" lang="el-GR" sz="1800" spc="-1" strike="noStrike">
                <a:solidFill>
                  <a:srgbClr val="009900"/>
                </a:solidFill>
                <a:latin typeface="Arial"/>
              </a:rPr>
              <a:t>που ενημερώνεται αυτόματα και ρυθμίζει το σύστημα</a:t>
            </a:r>
            <a:r>
              <a:rPr b="0" lang="el-GR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2720" y="5084640"/>
            <a:ext cx="7920000" cy="144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99"/>
                </a:solidFill>
                <a:latin typeface="Arial"/>
              </a:rPr>
              <a:t>Αναφορές :</a:t>
            </a:r>
            <a:r>
              <a:rPr b="0" lang="el-GR" sz="1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&gt;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. Weikum, A Moenkeberg, C Hasse, P Zabback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elf-tuning database Technology and Information Services : from Wishfu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hinking to Viable Engineer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&gt;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Microsoft Research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19800" y="260280"/>
            <a:ext cx="16732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18:10:52Z</dcterms:created>
  <dc:creator>Michael &amp; Maria Baltagianis</dc:creator>
  <dc:description/>
  <dc:language>en-US</dc:language>
  <cp:lastModifiedBy>Michael</cp:lastModifiedBy>
  <dcterms:modified xsi:type="dcterms:W3CDTF">2004-05-27T11:56:08Z</dcterms:modified>
  <cp:revision>162</cp:revision>
  <dc:subject/>
  <dc:title>The Asilomar Report  on  Database Research</dc:title>
</cp:coreProperties>
</file>